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D8D-ECC9-4A89-84E9-76A8894E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31A-CC3C-4EDE-8C2D-F7183ED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F4F-B6CD-4F7A-BF2C-9CBA50FA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97F-E8AF-4310-A8D7-A0752D34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40F1-D73D-44FF-A3A4-C098D43F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2F58-290E-4E13-AFDA-8189C010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EC26-A7D4-43E6-B7CB-DC9CAC28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5906-A76F-4E7D-B68D-DC1FF81B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AC4C-A290-412B-9685-85230E69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5764-E9EE-4EE7-B2B7-9B541D2E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BCAC-A59F-446A-A5ED-12975619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6D3-5CA6-4307-A4C3-72BEE5EF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B6EF-149B-49F1-9EAE-B7A024B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885F-CACA-44A5-8022-B00EFB49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7ED6-AC86-42FF-860C-7155786B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3356-4F5E-42F2-A9B6-485FB47B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1ACD-6CD4-48EF-AEAE-BA7255F5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05B34-5BCA-4346-A50A-75550E78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5377-0A0D-4E70-903E-BEFDDEAB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4F125-D1C3-4956-874A-0626E070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A0F5-D8E1-4C8E-B42A-680E7EC9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7837-2609-4DBD-97CE-1D5A3A15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F69-3A0F-486E-BCC8-AE4FA731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FE78-8306-4746-AC0B-A8777AEA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18F7-BDE2-45ED-97F5-ABB30B53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79D1-A4D8-4EC5-B2DB-9754DCD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2C38C-F3E8-479A-8B7A-34DDB00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58E2-6205-4B85-B256-E54691B6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0A48-1F91-4B32-83BC-B8585CC3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20D7-BE1F-4991-94AC-CB30AAFA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86009-DB9E-40B6-BEE8-F72B6CA6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A9E31-3036-4FAE-B69A-1B42BDC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B111-27C7-4C61-A599-286CC303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E7E-C0AF-49D5-8978-99300F99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4D834-49D4-4360-B925-C0AAA596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6608-DFF1-4451-91AB-DA5EB724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4233-3DA7-420E-93D8-340B07D9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FBE0D-6D78-443D-914D-B694315A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352D6-387B-4367-8279-4C81A7B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E83A0-221E-4169-8D27-E9D088B6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F4FA-8031-4276-8B9F-3A13B3D4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243E-09B6-4C5B-AC49-BFD7A824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254D-9314-4E7C-BAD2-14EBA63F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B863-287D-47A0-9F94-00D93064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DF9-8954-45B4-B413-00CEA235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B9A70-E03C-46B0-98FE-936B394D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3C0CC-9C22-4425-9160-22C80BD5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CB15F-F241-4C3C-8C1D-355D2FFD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2EE2C-F20D-4FA7-B1B7-BBA0B39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D7839-CE24-4054-92CD-5AD96E65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0C53B-2154-4E33-8FCC-FEE27C77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1AC2-B122-47B2-B316-71224294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D654F-D1A9-4AEE-B6E2-16C7C93C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6521-81E1-4E3B-8140-AB77A5F9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BC379-5420-41E8-93FD-B387FAC5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8AB-35C6-4A6A-8893-E0EAE3B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D6355-D135-47BB-8683-5099B7E7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94DF5-AF4C-43A1-AC19-AEE27152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58BB-4556-453D-A9E1-143B8FA8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BA58F-8ACD-45D9-BAEE-41CE0C56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28239-9C48-402B-95A4-0872AD02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F7A9-8C2B-4441-985C-9413BEBE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109FD-D4CB-4B9F-834B-01407220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4930E-9D7F-4B50-B4CF-CFF54731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4CFCD-84FB-45FA-A386-999AFDBC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54225-D551-4228-AA4F-2CEBBC84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E75-2177-4344-B13F-17D7061E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C3116-5310-4D36-9368-26A6ACC1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DC239-E401-498E-9517-D6BF374B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E6A13-F7BB-4D53-9864-1E0DDF14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141E1-2DE6-498B-A303-1AFB5927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02CBC-BF71-47CB-BD2A-654ECA06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94999-7CA9-410C-BB98-A2D422D6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4A232-72A6-4845-AF78-05B7B9A6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6E26A-5911-42A7-8F89-2F9A564B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2C434-6F41-47BE-AE5C-5DEB2037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0525C-09A6-4CB5-A4D0-7D58109F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ED9-F141-43C1-BFB6-4CC60715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80170-A57B-46ED-BA48-B6308287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8AD14-66AD-487E-9F7A-51D92F64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90641-278F-417C-B3E5-F2C70F37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CCEA6-77C5-42FC-B1C8-B1922B9A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8F2D4-6425-4BCF-A1DF-C1534A84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8E008-B090-4FB9-8131-3FC9B58A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6D348-9C5C-4B16-94DE-16A19C24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65099-7713-438C-9CB8-68ECAA45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9081F-2DCB-4BDF-AB6C-896B6AEA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CEC65-71A9-4C23-B6FF-8FF1C3C0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889-ADEB-477D-A278-A9947B9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0B6BC-EE57-4403-915B-18BCAC0D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3361E-DAAD-4FE2-8C0D-49CA6662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ED29A-CB7A-4885-8446-2E17A189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7BFE8-0A0B-40F5-AFE6-B4BBFA6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3311A-75B7-40C8-94B6-7A0EDF82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0B712-9840-4BD8-A85A-3E8E2165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9B71C-1113-497E-BA67-73DB7239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CB1E-6FC9-4F97-903F-59C3408640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2806-01E9-47EF-AEB3-D32BC9495450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0AF3-0C36-422F-A70B-94F84AADA6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722C-3A25-4772-92AD-4E4A6AAD76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0B64-70F0-4FE9-BF1F-78F375BD14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5E3E-C3EA-45DA-B7FB-51B2DEE3D5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9E93-9B33-4C38-8258-BEC2E1D66E4D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E327-4E30-4A95-BEE1-C62FFE7BF137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33240" y="212760"/>
            <a:ext cx="8169480" cy="20494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2" descr="mini1.jpg"/>
          <p:cNvPicPr/>
          <p:nvPr/>
        </p:nvPicPr>
        <p:blipFill>
          <a:blip r:embed="rId2"/>
          <a:stretch/>
        </p:blipFill>
        <p:spPr>
          <a:xfrm>
            <a:off x="2000160" y="2643120"/>
            <a:ext cx="46720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5200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Возможно ли научить микросхемы думать?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6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Радиоприемник без питания!!! Реально это или нет?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Как распространяются радиоволны?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7254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49e"/>
                </a:solidFill>
                <a:latin typeface="Arial"/>
              </a:rPr>
              <a:t>Расширить знания у учащихся в области радиоэлектроники, ориентировать на профессии, связанные с радиоэлектроникой, и облегчить подготовку к поступлению в технические ВУЗы. Курс «Основы радиоэлектроники» помогает углубить и расширить знания по теме «Электродинамика и радиофизика»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6938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214200" y="1213920"/>
            <a:ext cx="521496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сширение практической части учебной программы по «Электродинамике» и формирование экспериментальных умений учащихся при обучении физик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звитие творческой самостоятельности учащихс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Усиление связи обучения с жизнью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Рисунок 3" descr="030_1.jpg"/>
          <p:cNvPicPr/>
          <p:nvPr/>
        </p:nvPicPr>
        <p:blipFill>
          <a:blip r:embed="rId2"/>
          <a:stretch/>
        </p:blipFill>
        <p:spPr>
          <a:xfrm>
            <a:off x="5715000" y="1714680"/>
            <a:ext cx="31100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Что такое Радиоволны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Как устроены различные радиодетали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Как сконструировать простейший радиоприемник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20840" y="55440"/>
            <a:ext cx="8491320" cy="18525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504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Физика радиодеталей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диоволны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Конструирование простейших радиоприемников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Перспективы развития радиотехники и радиоэлектроники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Рисунок 4" descr="attachment126.jpeg"/>
          <p:cNvPicPr/>
          <p:nvPr/>
        </p:nvPicPr>
        <p:blipFill>
          <a:blip r:embed="rId2"/>
          <a:stretch/>
        </p:blipFill>
        <p:spPr>
          <a:xfrm>
            <a:off x="5000760" y="2428920"/>
            <a:ext cx="38005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6-04T19:55:14Z</dcterms:modified>
  <cp:revision>2</cp:revision>
  <dc:subject/>
  <dc:title>ОСНОВЫ РАДИОЭЛЕКТРОНИКИ </dc:title>
</cp:coreProperties>
</file>